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46B9-0DE1-4A3E-AA45-2E11FB6D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5334-88D3-4CCE-A69A-DB033D2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F84D-E5C3-4186-B2D6-E9471854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B168-A267-49CD-AC88-BE986AFF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58F8-EA59-4EC1-A5F8-24574928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DE91-0293-4460-A255-2F883CB7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A8B1-6288-43AE-843C-9CD3E881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C85C-84FB-420A-94FA-70FE37C0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B211-45DD-433E-8A9A-7037E0D2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0DC0-55AE-4EFF-8E3A-DA61218C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0BF3-EDFC-47FB-AF27-7B110E78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24AE-9BA8-465F-A73A-D8E02A0D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4F4C-E7FC-45A9-88EB-8D7889D8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2788-F7AD-4CDB-8967-9AED0D08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26F1-CCA2-404F-8374-D4EA49B6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94F8-D461-4371-A337-2A11A8A6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6FE4-FC0D-4B82-BDDD-C7CCAC7C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3EEA-27AE-40FB-98BC-61529979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22F3-AC8E-441A-B295-63212B3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ABDB-BF51-4FB1-8A4B-DAA6DE02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4CDE-E3D6-47A3-85C6-0BAA37AF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D44C-A981-4E6B-A002-B754BD3B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6986-7F3B-41B6-928B-68B6CDB3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36B7-9E4A-45FE-9E34-312B559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CA6F-76B7-48D8-A643-3F681B81216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F13E-10F0-412E-AE21-7C58181B912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539360"/>
            <a:ext cx="95774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72 (675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Както баща милее за син,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тъй Бог помага на всеки един!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е Му е чужда всяка ни нужда –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сичко Бог вижда и знай всичко Той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Както баща - и Бог тъй за нас; люби ни и грижи се всеки час; праща усмих Св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илва ни 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рно ни води към веч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рен е Бог наш, както баща! Помни и дава, що ни обещ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наш'то брем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ях ще снем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царството Свое ще ни взем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0-08T16:13:56Z</dcterms:modified>
  <cp:revision>106</cp:revision>
  <dc:subject/>
  <dc:title>Slide 1</dc:title>
</cp:coreProperties>
</file>